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6B5-AC48-409B-BE71-362FBEB9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6A1-5C43-411F-AFE6-8204A295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F4D-1060-4978-AD43-79C7C0F2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D54-EEF9-48A9-9C99-B001FDDC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7A7-985F-423E-B877-58652FAF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1F9-8A3B-4E67-979D-5BA69A3D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871-90B2-421B-B36D-F183430F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0B2-6EA8-4CB9-B260-555114F9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D0E-425A-4E9C-8476-0B9EB927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F64-4709-41E4-A96C-627A535E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528-6EC1-4FB4-9CCE-DF9946E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463-63B4-4F63-9102-253B379A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0225-71D9-4AC8-8FFC-6079E5EB7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MS900069610%5B1%5D.wav" TargetMode="External"/><Relationship Id="rId5" Type="http://schemas.microsoft.com/office/2007/relationships/media" Target="file:///tmp/home/.config/libreoffice/4/user/gallery/MS900069610%5B1%5D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MS900075011%5B1%5D.wav" TargetMode="External"/><Relationship Id="rId8" Type="http://schemas.microsoft.com/office/2007/relationships/media" Target="file:///tmp/home/.config/libreoffice/4/user/gallery/MS900075011%5B1%5D.wav" TargetMode="External"/><Relationship Id="rId9" Type="http://schemas.openxmlformats.org/officeDocument/2006/relationships/image" Target="../media/image2.png"/><Relationship Id="rId10" Type="http://schemas.openxmlformats.org/officeDocument/2006/relationships/audio" Target="file:///tmp/home/.config/libreoffice/4/user/gallery/MS900074919%5B1%5D.wav" TargetMode="External"/><Relationship Id="rId11" Type="http://schemas.microsoft.com/office/2007/relationships/media" Target="file:///tmp/home/.config/libreoffice/4/user/gallery/MS900074919%5B1%5D.wav" TargetMode="External"/><Relationship Id="rId12" Type="http://schemas.openxmlformats.org/officeDocument/2006/relationships/image" Target="../media/image2.png"/><Relationship Id="rId13" Type="http://schemas.openxmlformats.org/officeDocument/2006/relationships/audio" Target="file:///tmp/home/.config/libreoffice/4/user/gallery/MS900388319%5B1%5D.wav" TargetMode="External"/><Relationship Id="rId14" Type="http://schemas.microsoft.com/office/2007/relationships/media" Target="file:///tmp/home/.config/libreoffice/4/user/gallery/MS900388319%5B1%5D.wav" TargetMode="External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oxbrow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’s Freedom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old by Ariana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685800"/>
            <a:ext cx="18158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8.78613E-006 C -0.05434 -0.02427 -0.10972 -0.03768 -0.16667 -0.04439 C -0.24236 -0.04323 -0.31302 -0.07791 -0.36198 8.78613E-006 C -0.36806 0.04139 -0.34792 0.06081 -0.32066 0.07399 C -0.30347 0.08232 -0.28576 0.0881 -0.2684 0.09503 C -0.24826 0.10313 -0.22899 0.11446 -0.20955 0.12463 C -0.19757 0.157 -0.20347 0.20509 -0.20642 0.23677 C -0.21267 0.30151 -0.24583 0.36001 -0.29531 0.36579 C -0.33021 0.35862 -0.33854 0.36139 -0.36198 0.33411 C -0.36927 0.31006 -0.37326 0.30336 -0.36997 0.27261 C -0.36701 0.24602 -0.36441 0.2185 -0.35556 0.19446 C -0.32899 0.12116 -0.25469 0.08579 -0.19844 0.08024 C -0.16163 0.09133 -0.15174 0.07885 -0.1382 0.11631 C -0.13455 0.12625 -0.13281 0.13735 -0.13021 0.14798 C -0.13611 0.1755 -0.1382 0.20486 -0.14774 0.23053 C -0.16285 0.27076 -0.18629 0.26914 -0.21285 0.2874 C -0.2592 0.31908 -0.21111 0.29804 -0.24931 0.31284 C -0.25625 0.30937 -0.26858 0.31191 -0.26997 0.3022 C -0.27222 0.2874 -0.26233 0.27353 -0.25729 0.26012 C -0.23924 0.21226 -0.21198 0.14636 -0.1842 0.10567 C -0.17205 0.08787 -0.15729 0.07353 -0.14288 0.0592 C -0.13872 0.05503 -0.13229 0.0555 -0.12865 0.05064 C -0.12639 0.04764 -0.13507 0.05226 -0.1382 0.05295 C -0.24705 0.11931 -0.36597 0.16463 -0.4842 0.19029 C -0.49948 0.18821 -0.51528 0.18844 -0.53021 0.18382 C -0.54531 0.17896 -0.53802 0.14266 -0.53333 0.12047 C -0.52031 0.05781 -0.5125 0.04324 -0.47465 0.01272 C -0.46892 0.0155 -0.46215 0.01596 -0.45729 0.02105 C -0.4533 0.02521 -0.44792 0.06081 -0.44774 0.06128 C -0.44635 0.0955 -0.44497 0.12902 -0.44132 0.16278 C -0.44115 0.16509 -0.43646 0.20463 -0.43507 0.20717 C -0.42656 0.2222 -0.42049 0.22174 -0.40955 0.22405 C -0.39514 0.23353 -0.40347 0.22567 -0.42708 0.23885 C -0.44219 0.24717 -0.45642 0.25781 -0.47153 0.26636 C -0.55833 0.31538 -0.53368 0.30544 -0.58733 0.32347 C -0.59844 0.3207 -0.61094 0.32278 -0.62066 0.31492 C -0.62413 0.31214 -0.61875 0.30382 -0.61597 0.30012 C -0.60695 0.2881 -0.5967 0.27723 -0.58576 0.26844 C -0.52517 0.21943 -0.52535 0.22775 -0.45399 0.20509 C -0.19879 0.21388 -0.33108 0.18891 -0.05885 0.29388 C -0.02031 0.30868 0.01701 0.35261 0.0349 0.39954 C 0.04045 0.42983 -0.0224 0.45966 -0.03333 0.46498 C -0.15764 0.52417 -0.11267 0.51076 -0.22552 0.52209 C -0.24879 0.51931 -0.27257 0.5207 -0.29531 0.51376 C -0.34688 0.49804 -0.43142 0.44648 -0.44931 0.37203 C -0.41632 0.28555 -0.34913 0.2511 -0.2842 0.22197 C -0.19549 0.1822 -0.12135 0.17203 -0.02865 0.16486 C 0.00712 0.16555 0.1059 0.1385 0.13802 0.20509 C 0.06024 0.34336 -0.07691 0.41735 -0.2 0.45457 C -0.23333 0.45318 -0.26684 0.45527 -0.3 0.45018 C -0.30226 0.44995 -0.35851 0.42544 -0.36667 0.42058 C -0.40191 0.39908 -0.36493 0.41573 -0.38264 0.4081 C -0.36476 0.32347 -0.26458 0.27792 -0.20955 0.26012 C -0.19358 0.25503 -0.17674 0.25712 -0.16042 0.25573 C -0.14306 0.25943 -0.13004 0.26243 -0.11597 0.277 C -0.12344 0.30683 -0.12135 0.3022 -0.16354 0.33411 C -0.21754 0.37503 -0.25469 0.38844 -0.31597 0.39746 C -0.35868 0.38752 -0.40295 0.39053 -0.43663 0.34891 C -0.44097 0.34359 -0.44323 0.3207 -0.44445 0.31076 C -0.44063 0.2955 -0.44167 0.29388 -0.41754 0.29388 C -0.36667 0.29388 -0.31597 0.30105 -0.2651 0.30451 C -0.23333 0.31099 -0.20174 0.31954 -0.16997 0.32555 C -0.16146 0.35931 -0.16736 0.32949 -0.22222 0.38058 C -0.29549 0.44879 -0.36615 0.50706 -0.45243 0.54336 C -0.47257 0.53411 -0.49514 0.53157 -0.51285 0.51584 C -0.55434 0.47885 -0.55295 0.43654 -0.56354 0.3785 C -0.56094 0.31792 -0.56406 0.25619 -0.55556 0.19654 C -0.55156 0.16879 -0.53802 0.14475 -0.52708 0.12047 C -0.50365 0.06868 -0.46424 -0.00346 -0.41441 -0.01063 C -0.40747 -0.00578 -0.39965 -0.00277 -0.39375 0.00417 C -0.3875 0.01157 -0.3809 0.03631 -0.37778 0.04648 C -0.40972 0.14544 -0.47743 0.19122 -0.55399 0.20717 C -0.56875 0.20648 -0.58438 0.21133 -0.59844 0.20509 C -0.60417 0.20255 -0.60642 0.18382 -0.60642 0.18382 C -0.60608 0.17712 -0.60972 0.12301 -0.59531 0.10983 C -0.59028 0.10521 -0.58368 0.10567 -0.57778 0.10359 C -0.56146 0.11145 -0.54375 0.11538 -0.52865 0.12694 C -0.51476 0.13758 -0.50451 0.15538 -0.49219 0.16902 C -0.45104 0.21434 -0.4757 0.18058 -0.44774 0.22197 C -0.44097 0.24879 -0.42222 0.29318 -0.44774 0.31492 C -0.4625 0.30174 -0.50938 0.31376 -0.52865 0.31492 C -0.54497 0.31422 -0.56146 0.31561 -0.57778 0.31284 C -0.5809 0.31238 -0.5776 0.30405 -0.57622 0.30012 C -0.57396 0.29388 -0.5724 0.28717 -0.56997 0.28116 C -0.55521 0.24509 -0.53299 0.21642 -0.5191 0.17966 C -0.51267 0.14035 -0.5125 0.11908 -0.5191 0.07607 C -0.52066 0.06567 -0.52865 0.04995 -0.53177 0.04024 C -0.53125 0.02544 -0.53316 0.01018 -0.53021 -0.00416 C -0.52951 -0.00762 -0.52465 -0.00462 -0.52222 -0.00624 C -0.5184 -0.00878 -0.50677 -0.02473 -0.50486 -0.02751 C -0.47917 -0.0645 -0.51181 -0.02658 -0.45556 -0.0719 C -0.41649 -0.10335 -0.37205 -0.1119 -0.32708 -0.11838 C -0.3191 -0.12254 -0.30938 -0.12323 -0.3033 -0.13109 C -0.29462 -0.14242 -0.29983 -0.13872 -0.28733 -0.14173 C -0.27639 -0.15051 -0.26441 -0.15722 -0.25399 -0.16693 C -0.25122 -0.16947 -0.24913 -0.17341 -0.24618 -0.17549 C -0.24219 -0.17849 -0.22726 -0.18242 -0.22396 -0.18381 C -0.21076 -0.1889 -0.19879 -0.1963 -0.18576 -0.20092 C -0.17483 -0.21063 -0.1684 -0.20647 -0.15399 -0.20508 C -0.14861 -0.20138 -0.14653 -0.20115 -0.14288 -0.19445 C -0.13767 -0.18473 -0.14149 -0.18242 -0.13333 -0.17549 C -0.13125 -0.17132 -0.12708 -0.16277 -0.12708 -0.16277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Brown was a slave. When YOU was a slave you are supposed to know your a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Henry master was ill, so his master sold him to his son. Henry wasen’t thrill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Henry got older, he got married. Henry and Nancy had 3 kids. But Nancy was worried that her masters deal would be a lost. One day Henry’s wife and kids got sold to a slavery mas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745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553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279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70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98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67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7652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9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55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89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7574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  <p:audio isNarration="0">
              <p:cMediaNode showWhenStopped="1">
                <p:cTn/>
                <p:tgtEl>
                  <p:spTgt spid="48"/>
                </p:tgtEl>
              </p:cMediaNode>
            </p:audio>
            <p:audio isNarration="0">
              <p:cMediaNode showWhenStopped="1">
                <p:cTn/>
                <p:tgtEl>
                  <p:spTgt spid="49"/>
                </p:tgtEl>
              </p:cMediaNode>
            </p:audio>
            <p:audio isNarration="0">
              <p:cMediaNode showWhenStopped="1">
                <p:cTn/>
                <p:tgtEl>
                  <p:spTgt spid="50"/>
                </p:tgtEl>
              </p:cMediaNode>
            </p:audio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was so miserable, so he asked his friend to do him a favor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kids and wi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819520"/>
            <a:ext cx="41338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30:05Z</dcterms:created>
  <dc:creator>test</dc:creator>
  <dc:description/>
  <dc:language>en-US</dc:language>
  <cp:lastModifiedBy>test</cp:lastModifiedBy>
  <dcterms:modified xsi:type="dcterms:W3CDTF">2011-03-28T13:56:07Z</dcterms:modified>
  <cp:revision>9</cp:revision>
  <dc:subject/>
  <dc:title>Henry’s Freedom Box</dc:title>
</cp:coreProperties>
</file>